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1BC-5F87-4A4B-A725-DA2B4D41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71B-46CF-42D1-8310-E3CA84C5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654-E41C-423D-B1DF-A9133F21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502-71A1-44CE-9851-6832A5DA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A941-8F0D-4AD0-AA2A-512526A7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CC00-EFCA-42FC-A6B9-46C7511D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3165-115F-4E40-BC85-F7F0F582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D99E-602C-473D-922D-E3151AD4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396B-B19B-4499-9164-58FFFC7E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6472-7B23-4198-BCCF-F752EFA1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BE9B-9FCC-4DEF-BB2A-CD5A1E39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9D2-28DD-4D53-95B9-96BF9CF9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F045-EEB2-4E33-B021-CE4DBA60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36C0-D643-484B-8D01-7C44270C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EC0B-CBBF-4667-97C0-34D18E33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0DEC-0278-4F67-A8EB-8E478157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C14C-F0E8-4EB1-9272-9D30EA0D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7FF-1B7E-4FD4-B63E-6F3E9531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024-5F24-4283-BB8C-2048FA74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666-4D43-4C73-86F5-A4634E68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E38-2DDD-4B16-89A3-EF73DB91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C16-A5CF-41B0-8C6B-68197BD4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D19-C12F-41FB-AB78-171A1FEB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62BB-E780-49AE-B514-EF60FB52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0249-4142-44F2-BBC2-6BF8CB19DD77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FD65-4DCE-4B75-8294-FBD2F527A47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457200"/>
            <a:ext cx="6870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raditionally Englishmen say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“My home is my …. 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706440" y="540972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3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54320" y="3993120"/>
            <a:ext cx="22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castle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.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41:5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